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80D-2F68-4EB6-91AC-731A52DE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2DA-8692-4C39-A0FF-F2C814B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80B-86BC-499E-8341-DF36342F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298-70C0-4B0D-9C97-783014B5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F06-99BA-4878-9770-2FCD602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F0F-46D3-49B2-A19D-F094204D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AC5-76E4-4482-A87A-80C2A735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688-FA9A-456B-B382-A83A1903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245-7106-490C-8DD7-EC3A3DC4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F0A-40BD-4C81-B1ED-A829EA0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9A0-7590-4177-B03B-E505166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908-E307-468A-8FA3-FBC2D23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07B-F22E-47CA-8FB1-974E7380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shmm.org/research/collections/curatorscorner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llege.usc.edu/vhi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tlc.wiesenthal.com/site/pp.asp?c=gvKVLcMVIuG&amp;b=394663" TargetMode="External"/><Relationship Id="rId2" Type="http://schemas.openxmlformats.org/officeDocument/2006/relationships/hyperlink" Target="http://www.theworldcafe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hmm.org/lcmedia/viewer/wlc/document.php?RefId=1998SGB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580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e Holocaust: A Best Practices</a:t>
            </a: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orkshop for Catholic School Educato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" y="6108840"/>
            <a:ext cx="99252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What kind of world will future generations inherit? It's up to us to educate the future leaders to not only tolerate others, but accept other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52760" y="1623960"/>
            <a:ext cx="2935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2040" y="6071760"/>
            <a:ext cx="9646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yond Theory...Into Action...HOW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1440" y="-17640"/>
            <a:ext cx="5449680" cy="4664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5383080" y="-49320"/>
            <a:ext cx="46832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000" y="299520"/>
            <a:ext cx="965808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derstand the Holocaust through 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udent Inquiry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lp Students Connect with the Pas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944440"/>
            <a:ext cx="878364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could we d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WL Cha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nk Pair Sha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ld Cafe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d Academic Controvers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tifacts/Pho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imon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imeli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 based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Translate Statistics into Peo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50400"/>
            <a:ext cx="642960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Holocaust is a Historical Event. 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648120" y="388800"/>
            <a:ext cx="3297240" cy="73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to as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the Holocau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d it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d it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2116080"/>
            <a:ext cx="6615000" cy="4870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89120" y="7232760"/>
            <a:ext cx="5175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 photos come from the United States Holocaust Memorial Museum ushmm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e Approach: Teach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360" y="1020600"/>
            <a:ext cx="957600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Images, Artifacts and Stories to help students remem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688000" y="1522440"/>
            <a:ext cx="4303800" cy="3811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00080" y="3960720"/>
            <a:ext cx="5454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SHMM Curator's Corn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pis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789520" y="709560"/>
            <a:ext cx="4218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" y="201600"/>
            <a:ext cx="983952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ow do we connect students with the pas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each using tangible resources.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6240" y="2827440"/>
            <a:ext cx="455760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Primary sourc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mo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ye Witness Testimo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cum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Artwork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2440" y="3960360"/>
            <a:ext cx="473868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If you use historical fiction or movies ..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point out the fact vs the fiction to teach students to be critical think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you show a movie, start with a documentary or cli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7800" y="200160"/>
            <a:ext cx="52830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was involved?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09920" y="2233080"/>
            <a:ext cx="4795560" cy="32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ere th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ctim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ivo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petrato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stande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cuer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erators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8440" y="277920"/>
            <a:ext cx="5127840" cy="6953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27720" y="5688000"/>
            <a:ext cx="43578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Q: What role did the Catholic Church play in the Holocaus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3840" y="114120"/>
            <a:ext cx="858204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r>
              <a:rPr b="1" lang="en-US" sz="5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5300"/>
            </a:b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Why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 did it occur? A DIFFICULT question to answer.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0440" y="2538000"/>
            <a:ext cx="87742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 our study of the Holocaust we will look at multiple perspectives to better understand history and how the event came to 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look at CHOICES made by individuals and grou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learn to make informed decisions about the pas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306000"/>
            <a:ext cx="84960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br>
              <a:rPr sz="53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o determine WHY? Search for FAC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6240" y="2538000"/>
            <a:ext cx="4427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ould be a credible sourc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ould be a primary sourc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United States Holocaust Memorial Museum website (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</a:rPr>
              <a:t>www.ushmm.or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976640" y="3656160"/>
            <a:ext cx="5177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Power of WORD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40" y="4773600"/>
            <a:ext cx="47484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If ever a piece of writing could produce mass hatred, it is this one. . . . This book is about lies and slander."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e Wiesel, Nobel Peace Prize Laure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2600" y="1820520"/>
            <a:ext cx="45990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rotocols of the Elders of Z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he most notorious and widely distributed antisemitic publication of modern tim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01600" y="1522440"/>
            <a:ext cx="4065480" cy="2909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224320" y="4468680"/>
            <a:ext cx="42768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Concep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ensorshi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ook Bu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Book Ban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835280"/>
            <a:ext cx="9658080" cy="62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Necessary to teach yet not an easy task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ssons the Holocaust teac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's Will to L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ademic - History, Literature, 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8920" y="3655800"/>
            <a:ext cx="8862840" cy="34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Never Again ...Did Happen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roubles Today…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3120" y="201600"/>
            <a:ext cx="4065840" cy="304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5992920" y="100080"/>
            <a:ext cx="40654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6400" y="388800"/>
            <a:ext cx="854712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010…Genocide is a Proble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52240" y="4706640"/>
            <a:ext cx="88009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</a:rPr>
              <a:t>http://www.ushmm.org/genocide/take_action/gallery/portra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TURE is up to each one of 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studying the Holocaust and watching testimony about GENOCIDE on our world TODAY, how can you make a difference in the worl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778040" y="1692360"/>
            <a:ext cx="61815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Genocide Wat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834920"/>
            <a:ext cx="45860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World is Wit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Video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At Risk Tod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 Cong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snia-Herzegovin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hnya, Russ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265640" y="1217520"/>
            <a:ext cx="56149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ere do we go from her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5880" y="1115640"/>
            <a:ext cx="9645480" cy="75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ke back ideas from today to your classrooms and school sit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ue to collabor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 to develop Holocaust Education Teaching Guidelines that looks at scope and sequence so each of us builds upon the work of the previous year's teacher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et annually for to share best practices and help new teache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essional Growth Opportuniti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USHM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SHOA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302760"/>
            <a:ext cx="1002024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Vocabulary of 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66360" y="2131560"/>
            <a:ext cx="73486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or vs bystand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semitism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judice vs discrimin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orders vs assumed or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oiceless choi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ntration camp vs killing ce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lt vs responsibil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5880" y="1217520"/>
            <a:ext cx="964692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How do we go about teaching about the Holocaus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ay we'll discuss best practices in teaching the Holocaust in our Catholic School Setting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...DEFINE the term and check for prior knowled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nticipate student questio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ld Cafe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lies Necessar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rge Post Its/Chart Pa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 for Discussion (20 minute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960" y="2823840"/>
            <a:ext cx="4370400" cy="32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A survey found that 20 percent of American high school students could not identify Hitler and name whom the United States fought in World War II (USHMM.org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7880" y="1623600"/>
            <a:ext cx="5065560" cy="56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's our job to teach both the easy and difficult concept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ow do we go about teaching a complex subjec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e systematically and clearly explain history to the young people we encounter in our classroom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e connect with their emotions (age appropriat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ing Methodology...first consider the following THREE ide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fine the Holocaust and Antisemitism (Use precise language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imply the Holocaust was inevi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simple answers to complex question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1280" y="2233440"/>
            <a:ext cx="4844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The United States Holocaust Memorial Museum defines the term Holocaust as the systematic, bureaucratic, state-sponsored persecution and murder of approximately six million Jews by the Nazi regime and its collaborato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ing Methodology...next consider the following THREE ide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 from a balanced perspectiv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oid comparison of pa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romanticize hi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0560" y="3929040"/>
            <a:ext cx="374796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ass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vel was not for business or pleasu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381640" y="1962000"/>
            <a:ext cx="29574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91800"/>
            <a:ext cx="965196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The Holocaus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400" y="912600"/>
            <a:ext cx="620712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ing Methodology...next consider the following THREE ide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extualize the hi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late statistics into peo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responsible methodological cho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68680" y="3656160"/>
            <a:ext cx="55738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400" y="727200"/>
            <a:ext cx="8547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do we TEACH about this HISTORICAL event? We get students to ASK ques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06400" y="2251080"/>
            <a:ext cx="4145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 with background knowled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ntrate on FACTS…get students to form their own conclu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rimary sources to get students to connect with the pa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715000" y="2200320"/>
            <a:ext cx="3133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erald shobar</cp:lastModifiedBy>
  <dcterms:modified xsi:type="dcterms:W3CDTF">2011-02-01T13:32:13Z</dcterms:modified>
  <cp:revision>2</cp:revision>
  <dc:subject/>
  <dc:title>PowerPoint Presentation</dc:title>
</cp:coreProperties>
</file>